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54.png" ContentType="image/png"/>
  <Override PartName="/ppt/media/image14.wmf" ContentType="image/x-wmf"/>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9.wmf" ContentType="image/x-wmf"/>
  <Override PartName="/ppt/media/image31.png" ContentType="image/png"/>
  <Override PartName="/ppt/media/image30.png" ContentType="image/png"/>
  <Override PartName="/ppt/media/image7.wmf" ContentType="image/x-wmf"/>
  <Override PartName="/ppt/media/image35.png" ContentType="image/png"/>
  <Override PartName="/ppt/media/image36.png" ContentType="image/png"/>
  <Override PartName="/ppt/media/image37.png" ContentType="image/png"/>
  <Override PartName="/ppt/media/image38.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50.wmf" ContentType="image/x-wmf"/>
  <Override PartName="/ppt/media/image47.png" ContentType="image/png"/>
  <Override PartName="/ppt/media/image10.png" ContentType="image/png"/>
  <Override PartName="/ppt/media/image5.wmf" ContentType="image/x-wmf"/>
  <Override PartName="/ppt/media/image46.png" ContentType="image/png"/>
  <Override PartName="/ppt/media/image6.wmf" ContentType="image/x-wmf"/>
  <Override PartName="/ppt/media/image41.png" ContentType="image/png"/>
  <Override PartName="/ppt/media/image39.wmf" ContentType="image/x-wmf"/>
  <Override PartName="/ppt/media/image9.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12.png" ContentType="image/png"/>
  <Override PartName="/ppt/media/image49.png" ContentType="image/png"/>
  <Override PartName="/ppt/media/image52.wmf" ContentType="image/x-wmf"/>
  <Override PartName="/ppt/media/image11.png" ContentType="image/png"/>
  <Override PartName="/ppt/media/image48.png" ContentType="image/png"/>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F07A5D6C-55D3-4610-B17C-ACC70976CE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39760" y="681120"/>
            <a:ext cx="4552920" cy="3414600"/>
          </a:xfrm>
          <a:prstGeom prst="rect">
            <a:avLst/>
          </a:prstGeom>
          <a:ln w="0">
            <a:noFill/>
          </a:ln>
        </p:spPr>
      </p:sp>
      <p:sp>
        <p:nvSpPr>
          <p:cNvPr id="764"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4440" y="687240"/>
            <a:ext cx="4567320" cy="3426120"/>
          </a:xfrm>
          <a:prstGeom prst="rect">
            <a:avLst/>
          </a:prstGeom>
          <a:ln w="0">
            <a:noFill/>
          </a:ln>
        </p:spPr>
      </p:sp>
      <p:sp>
        <p:nvSpPr>
          <p:cNvPr id="766"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6CE925-3683-42F6-BD52-D3D0CB7F7E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060154-68C8-48AF-8DDD-7CB5B23E8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0204C9-0FB7-440E-BCA5-6A558A6B5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C3BD69-642F-4099-8D41-A62306C2BA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28C2B7-E089-4037-9DC4-B3C7E1CEB8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DB8D307C-5D3C-43AD-A7C2-30FB895E3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33E36F19-F893-42BC-9B53-8D9AD3330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A99631F9-5827-4EE8-8EC6-5A0A9EEC6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03868919-1A01-4426-85E1-C25BED52D6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563E063D-624C-4BA2-961A-8585BEF7B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71F7A836-12CD-4C33-8AC0-7B18B8616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EF5138-88F7-41DD-95EB-A78825D7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9C1F6807-2480-40EB-A9AD-E579BD6F3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C1EE7181-D8F4-4B9D-BB44-DDCA0B10B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E25D640A-2CB9-45B9-954E-5B3CC49D8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4"/>
          </p:nvPr>
        </p:nvSpPr>
        <p:spPr/>
        <p:txBody>
          <a:bodyPr/>
          <a:p>
            <a:fld id="{2A543952-C463-453B-847D-4A9886DEF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4"/>
          </p:nvPr>
        </p:nvSpPr>
        <p:spPr/>
        <p:txBody>
          <a:bodyPr/>
          <a:p>
            <a:fld id="{AE425C36-617F-4171-8428-D36639BCF3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87A70A-9788-4955-AB15-58D8E6B0B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94C74D-0D7F-4F09-864B-FA92D37B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1A2A5B33-B311-44D6-BF00-CE2BE2923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55B09D6-9F4D-4166-B24A-22295B04C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F10A4-5F9A-49C8-9406-3FC74432D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4F9102-C313-468E-A02F-C027BF158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A319BD-3457-4550-BFB6-01D0B28AD3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2276640" y="640080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146F-4825-47C2-8054-DA2B206F7DA4}" type="datetime3">
              <a:rPr b="0" lang="en-US" sz="2400" spc="-1" strike="noStrike">
                <a:solidFill>
                  <a:srgbClr val="898989"/>
                </a:solidFill>
                <a:latin typeface="Times New Roman"/>
              </a:rPr>
              <a:t>July 30, 2026</a:t>
            </a:fld>
            <a:endParaRPr b="0" lang="en-US" sz="2400" spc="-1" strike="noStrike">
              <a:solidFill>
                <a:srgbClr val="000000"/>
              </a:solidFill>
              <a:latin typeface="Times New Roman"/>
            </a:endParaRPr>
          </a:p>
        </p:txBody>
      </p:sp>
      <p:sp>
        <p:nvSpPr>
          <p:cNvPr id="10"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3B3D-598F-42B1-B168-6317B522466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2898360" y="640080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1B16-A99B-4186-A719-FE64C5A6A539}" type="datetime3">
              <a:rPr b="0" lang="en-US" sz="2400" spc="-1" strike="noStrike">
                <a:solidFill>
                  <a:srgbClr val="898989"/>
                </a:solidFill>
                <a:latin typeface="Times New Roman"/>
              </a:rPr>
              <a:t>July 30, 2026</a:t>
            </a:fld>
            <a:endParaRPr b="0" lang="en-US" sz="2400" spc="-1" strike="noStrike">
              <a:solidFill>
                <a:srgbClr val="000000"/>
              </a:solidFill>
              <a:latin typeface="Times New Roman"/>
            </a:endParaRPr>
          </a:p>
        </p:txBody>
      </p:sp>
      <p:sp>
        <p:nvSpPr>
          <p:cNvPr id="55" name="PlaceHolder 4"/>
          <p:cNvSpPr>
            <a:spLocks noGrp="1"/>
          </p:cNvSpPr>
          <p:nvPr>
            <p:ph type="sldNum" idx="4"/>
          </p:nvPr>
        </p:nvSpPr>
        <p:spPr>
          <a:xfrm>
            <a:off x="6705720" y="632412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1991-315B-4E8E-B19E-2BF1C8AB47F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32" name="Object 3"/>
          <p:cNvGraphicFramePr/>
          <p:nvPr/>
        </p:nvGraphicFramePr>
        <p:xfrm>
          <a:off x="533520" y="1905120"/>
          <a:ext cx="3665520" cy="4114800"/>
        </p:xfrm>
        <a:graphic>
          <a:graphicData uri="http://schemas.openxmlformats.org/presentationml/2006/ole">
            <p:oleObj r:id="rId1" spid="">
              <p:embed/>
              <p:pic>
                <p:nvPicPr>
                  <p:cNvPr id="133"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34"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5" name="Picture 5" descr=""/>
          <p:cNvPicPr/>
          <p:nvPr/>
        </p:nvPicPr>
        <p:blipFill>
          <a:blip r:embed="rId3"/>
          <a:stretch/>
        </p:blipFill>
        <p:spPr>
          <a:xfrm>
            <a:off x="4602240" y="1905120"/>
            <a:ext cx="3017880" cy="3886200"/>
          </a:xfrm>
          <a:prstGeom prst="rect">
            <a:avLst/>
          </a:prstGeom>
          <a:ln w="0">
            <a:noFill/>
          </a:ln>
        </p:spPr>
      </p:pic>
      <p:sp>
        <p:nvSpPr>
          <p:cNvPr id="136"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
        <p:nvSpPr>
          <p:cNvPr id="7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8198-525B-49A3-A0B1-70EF3586FA7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6D79-F563-4157-BB29-E0D5754C7B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758"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76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1" name="Picture 4" descr="lbo_sources_and_uses"/>
          <p:cNvPicPr/>
          <p:nvPr/>
        </p:nvPicPr>
        <p:blipFill>
          <a:blip r:embed="rId1"/>
          <a:stretch/>
        </p:blipFill>
        <p:spPr>
          <a:xfrm>
            <a:off x="762120" y="2438280"/>
            <a:ext cx="7010280" cy="33544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92B4ACC2-5DC0-454B-B578-640DA062A5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8"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40"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3E38D52-6812-4694-A459-E6B4826DD6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41"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
        <p:nvSpPr>
          <p:cNvPr id="14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7618-31E4-42C2-B506-457835688C2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0545-24FA-4985-988E-030C68A364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
        <p:nvSpPr>
          <p:cNvPr id="1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9E47-E8C3-495E-95A2-90ABB96C40A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3EA0-D002-473B-BB5A-BCE3BA0116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51"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52" name="Picture 4" descr=""/>
          <p:cNvPicPr/>
          <p:nvPr/>
        </p:nvPicPr>
        <p:blipFill>
          <a:blip r:embed="rId1"/>
          <a:stretch/>
        </p:blipFill>
        <p:spPr>
          <a:xfrm>
            <a:off x="4343400" y="1981080"/>
            <a:ext cx="4468680" cy="3252960"/>
          </a:xfrm>
          <a:prstGeom prst="rect">
            <a:avLst/>
          </a:prstGeom>
          <a:ln w="0">
            <a:noFill/>
          </a:ln>
        </p:spPr>
      </p:pic>
      <p:sp>
        <p:nvSpPr>
          <p:cNvPr id="15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3D26-534C-4434-9395-00709AA83C0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8043-8F30-42BF-BBA1-CB32B23A06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990720" y="1523880"/>
            <a:ext cx="6777000" cy="4391280"/>
          </a:xfrm>
          <a:prstGeom prst="rect">
            <a:avLst/>
          </a:prstGeom>
          <a:ln w="0">
            <a:noFill/>
          </a:ln>
        </p:spPr>
      </p:pic>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0CBB-78DA-445E-B551-2F7C991EA7D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9505-3463-468C-B67E-037FFD9997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4" descr=""/>
          <p:cNvPicPr/>
          <p:nvPr/>
        </p:nvPicPr>
        <p:blipFill>
          <a:blip r:embed="rId1"/>
          <a:stretch/>
        </p:blipFill>
        <p:spPr>
          <a:xfrm>
            <a:off x="2057400" y="2362320"/>
            <a:ext cx="4886280" cy="3308400"/>
          </a:xfrm>
          <a:prstGeom prst="rect">
            <a:avLst/>
          </a:prstGeom>
          <a:ln w="0">
            <a:noFill/>
          </a:ln>
        </p:spPr>
      </p:pic>
      <p:sp>
        <p:nvSpPr>
          <p:cNvPr id="1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DC16-2B41-47AD-B1E0-13EE329C566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ABE1-0195-4B04-B97D-46DE51D9C4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66"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67"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68"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Out</a:t>
            </a:r>
            <a:endParaRPr b="0" lang="en-US" sz="1800" spc="-1" strike="noStrike">
              <a:solidFill>
                <a:srgbClr val="000000"/>
              </a:solidFill>
              <a:latin typeface="Arial"/>
            </a:endParaRPr>
          </a:p>
          <a:p>
            <a:pPr lvl="1" marL="717480" indent="-3232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2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62BA-1C99-4752-A75B-0B085885245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A653-8A1E-45D0-AD4B-74367693D0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70" name="Picture 4" descr=""/>
          <p:cNvPicPr/>
          <p:nvPr/>
        </p:nvPicPr>
        <p:blipFill>
          <a:blip r:embed="rId1"/>
          <a:stretch/>
        </p:blipFill>
        <p:spPr>
          <a:xfrm>
            <a:off x="1274760" y="1523880"/>
            <a:ext cx="6059520" cy="4191120"/>
          </a:xfrm>
          <a:prstGeom prst="rect">
            <a:avLst/>
          </a:prstGeom>
          <a:ln w="0">
            <a:noFill/>
          </a:ln>
        </p:spPr>
      </p:pic>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58A2-12AD-484E-A60D-E1B7677F2AB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96F6-8052-45FA-801C-46A6CBEC3A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74" name="Picture 4" descr="ev_ebitda_multiples"/>
          <p:cNvPicPr/>
          <p:nvPr/>
        </p:nvPicPr>
        <p:blipFill>
          <a:blip r:embed="rId1"/>
          <a:stretch/>
        </p:blipFill>
        <p:spPr>
          <a:xfrm>
            <a:off x="380880" y="1246320"/>
            <a:ext cx="7925040" cy="4782960"/>
          </a:xfrm>
          <a:prstGeom prst="rect">
            <a:avLst/>
          </a:prstGeom>
          <a:ln w="0">
            <a:noFill/>
          </a:ln>
        </p:spPr>
      </p:pic>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8658-3255-4AAB-8739-810DA8F6314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E55B-4AE4-4E3D-8C9F-B7DD17F4EE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0" y="2286000"/>
          <a:ext cx="4800600" cy="3772080"/>
        </p:xfrm>
        <a:graphic>
          <a:graphicData uri="http://schemas.openxmlformats.org/presentationml/2006/ole">
            <p:oleObj r:id="rId1" spid="">
              <p:embed/>
              <p:pic>
                <p:nvPicPr>
                  <p:cNvPr id="178"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79" name="Object 3"/>
          <p:cNvGraphicFramePr/>
          <p:nvPr/>
        </p:nvGraphicFramePr>
        <p:xfrm>
          <a:off x="4952880" y="2057400"/>
          <a:ext cx="3848400" cy="4089240"/>
        </p:xfrm>
        <a:graphic>
          <a:graphicData uri="http://schemas.openxmlformats.org/presentationml/2006/ole">
            <p:oleObj r:id="rId3" spid="">
              <p:embed/>
              <p:pic>
                <p:nvPicPr>
                  <p:cNvPr id="180"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81"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83"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84"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0" y="2286000"/>
          <a:ext cx="4800600" cy="3911760"/>
        </p:xfrm>
        <a:graphic>
          <a:graphicData uri="http://schemas.openxmlformats.org/presentationml/2006/ole">
            <p:oleObj r:id="rId1" spid="">
              <p:embed/>
              <p:pic>
                <p:nvPicPr>
                  <p:cNvPr id="186"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87" name="Object 3"/>
          <p:cNvGraphicFramePr/>
          <p:nvPr/>
        </p:nvGraphicFramePr>
        <p:xfrm>
          <a:off x="4876920" y="2286000"/>
          <a:ext cx="3848040" cy="3911760"/>
        </p:xfrm>
        <a:graphic>
          <a:graphicData uri="http://schemas.openxmlformats.org/presentationml/2006/ole">
            <p:oleObj r:id="rId3" spid="">
              <p:embed/>
              <p:pic>
                <p:nvPicPr>
                  <p:cNvPr id="188"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89"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90"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9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92"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94" name="Picture 5" descr="EV_EBITDA_by_Industry"/>
          <p:cNvPicPr/>
          <p:nvPr/>
        </p:nvPicPr>
        <p:blipFill>
          <a:blip r:embed="rId1"/>
          <a:stretch/>
        </p:blipFill>
        <p:spPr>
          <a:xfrm>
            <a:off x="0" y="1300320"/>
            <a:ext cx="8381880" cy="4682880"/>
          </a:xfrm>
          <a:prstGeom prst="rect">
            <a:avLst/>
          </a:prstGeom>
          <a:ln w="0">
            <a:noFill/>
          </a:ln>
        </p:spPr>
      </p:pic>
      <p:sp>
        <p:nvSpPr>
          <p:cNvPr id="1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BD78-CE3B-47F4-9AD8-002A55016B0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04CA-78BC-49B8-8D3D-C0941A8133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97" name="Object 2"/>
          <p:cNvGraphicFramePr/>
          <p:nvPr/>
        </p:nvGraphicFramePr>
        <p:xfrm>
          <a:off x="914400" y="1569960"/>
          <a:ext cx="8229600" cy="4278240"/>
        </p:xfrm>
        <a:graphic>
          <a:graphicData uri="http://schemas.openxmlformats.org/presentationml/2006/ole">
            <p:oleObj r:id="rId1" spid="">
              <p:embed/>
              <p:pic>
                <p:nvPicPr>
                  <p:cNvPr id="198"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99"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200"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201"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0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0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AA8A-9A5E-43F9-AC13-957817766FC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0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5160-2254-4E99-9841-4077D46A17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205" name="Object 2"/>
          <p:cNvGraphicFramePr/>
          <p:nvPr/>
        </p:nvGraphicFramePr>
        <p:xfrm>
          <a:off x="762120" y="1747800"/>
          <a:ext cx="8153280" cy="4119480"/>
        </p:xfrm>
        <a:graphic>
          <a:graphicData uri="http://schemas.openxmlformats.org/presentationml/2006/ole">
            <p:oleObj r:id="rId1" spid="">
              <p:embed/>
              <p:pic>
                <p:nvPicPr>
                  <p:cNvPr id="206"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207"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208"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209"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10"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6758-DD3E-4676-A16C-D96BA275B61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1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FD90-0871-4FFC-8656-2521FE9470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214" name="Object 3"/>
          <p:cNvGraphicFramePr/>
          <p:nvPr/>
        </p:nvGraphicFramePr>
        <p:xfrm>
          <a:off x="419040" y="1752480"/>
          <a:ext cx="8305920" cy="4397400"/>
        </p:xfrm>
        <a:graphic>
          <a:graphicData uri="http://schemas.openxmlformats.org/presentationml/2006/ole">
            <p:oleObj r:id="rId1" spid="">
              <p:embed/>
              <p:pic>
                <p:nvPicPr>
                  <p:cNvPr id="215"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216"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218" name="Picture 4" descr=""/>
          <p:cNvPicPr/>
          <p:nvPr/>
        </p:nvPicPr>
        <p:blipFill>
          <a:blip r:embed="rId1"/>
          <a:stretch/>
        </p:blipFill>
        <p:spPr>
          <a:xfrm>
            <a:off x="1271520" y="1523880"/>
            <a:ext cx="6066000" cy="4191120"/>
          </a:xfrm>
          <a:prstGeom prst="rect">
            <a:avLst/>
          </a:prstGeom>
          <a:ln w="0">
            <a:noFill/>
          </a:ln>
        </p:spPr>
      </p:pic>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4E89-3F73-461C-985E-3A6C53A31F0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E008-5157-407D-8809-2DEB92CE4C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222" name="Picture 4" descr=""/>
          <p:cNvPicPr/>
          <p:nvPr/>
        </p:nvPicPr>
        <p:blipFill>
          <a:blip r:embed="rId1"/>
          <a:stretch/>
        </p:blipFill>
        <p:spPr>
          <a:xfrm>
            <a:off x="762120" y="1752480"/>
            <a:ext cx="7086600" cy="3732480"/>
          </a:xfrm>
          <a:prstGeom prst="rect">
            <a:avLst/>
          </a:prstGeom>
          <a:ln w="0">
            <a:noFill/>
          </a:ln>
        </p:spPr>
      </p:pic>
      <p:sp>
        <p:nvSpPr>
          <p:cNvPr id="2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3626-868F-4EE6-AD7F-F31ABD9777F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AEC5-6076-4B71-94A3-78FB6F19F5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84D3-3E6B-4E26-ACDF-0FE8D486847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9FE8-DFB2-4082-8AF3-55B9B7EFA7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226" name="Picture 4" descr="Defaults"/>
          <p:cNvPicPr/>
          <p:nvPr/>
        </p:nvPicPr>
        <p:blipFill>
          <a:blip r:embed="rId1"/>
          <a:stretch/>
        </p:blipFill>
        <p:spPr>
          <a:xfrm>
            <a:off x="0" y="1674720"/>
            <a:ext cx="8153280" cy="4119480"/>
          </a:xfrm>
          <a:prstGeom prst="rect">
            <a:avLst/>
          </a:prstGeom>
          <a:ln w="0">
            <a:noFill/>
          </a:ln>
        </p:spPr>
      </p:pic>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590D-4005-4CA1-88A1-E66CC3088FD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E474-851F-44E6-8F28-0564B558B9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230" name="Picture 4" descr="Debt_to_EBITDA"/>
          <p:cNvPicPr/>
          <p:nvPr/>
        </p:nvPicPr>
        <p:blipFill>
          <a:blip r:embed="rId1"/>
          <a:stretch/>
        </p:blipFill>
        <p:spPr>
          <a:xfrm>
            <a:off x="0" y="1447920"/>
            <a:ext cx="8305920" cy="4537080"/>
          </a:xfrm>
          <a:prstGeom prst="rect">
            <a:avLst/>
          </a:prstGeom>
          <a:ln w="0">
            <a:noFill/>
          </a:ln>
        </p:spPr>
      </p:pic>
      <p:sp>
        <p:nvSpPr>
          <p:cNvPr id="2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AF3F-0026-491C-94C2-2D59B998864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382C-EFB7-4003-ADA9-4CA76D66EE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233"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234" name="Object 4"/>
          <p:cNvGraphicFramePr/>
          <p:nvPr/>
        </p:nvGraphicFramePr>
        <p:xfrm>
          <a:off x="762120" y="1841400"/>
          <a:ext cx="7416720" cy="4102200"/>
        </p:xfrm>
        <a:graphic>
          <a:graphicData uri="http://schemas.openxmlformats.org/presentationml/2006/ole">
            <p:oleObj r:id="rId1" spid="">
              <p:embed/>
              <p:pic>
                <p:nvPicPr>
                  <p:cNvPr id="235"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36"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7"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38"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9"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0"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41"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42"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43"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4"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45"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8"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49"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50"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54"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55" name="Object 2"/>
          <p:cNvGraphicFramePr/>
          <p:nvPr/>
        </p:nvGraphicFramePr>
        <p:xfrm>
          <a:off x="1371600" y="1447920"/>
          <a:ext cx="7240680" cy="4775040"/>
        </p:xfrm>
        <a:graphic>
          <a:graphicData uri="http://schemas.openxmlformats.org/presentationml/2006/ole">
            <p:oleObj r:id="rId1" spid="">
              <p:embed/>
              <p:pic>
                <p:nvPicPr>
                  <p:cNvPr id="256"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58" name="Picture 4" descr="Loan_Pricing"/>
          <p:cNvPicPr/>
          <p:nvPr/>
        </p:nvPicPr>
        <p:blipFill>
          <a:blip r:embed="rId1"/>
          <a:stretch/>
        </p:blipFill>
        <p:spPr>
          <a:xfrm>
            <a:off x="0" y="1173240"/>
            <a:ext cx="8686800" cy="4937040"/>
          </a:xfrm>
          <a:prstGeom prst="rect">
            <a:avLst/>
          </a:prstGeom>
          <a:ln w="0">
            <a:noFill/>
          </a:ln>
        </p:spPr>
      </p:pic>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F194-88D6-40AC-997C-EC3743E854C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0900-D6DC-4954-A68F-455F0CAA6F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62"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63" name="Object 4"/>
          <p:cNvGraphicFramePr/>
          <p:nvPr/>
        </p:nvGraphicFramePr>
        <p:xfrm>
          <a:off x="330120" y="1739880"/>
          <a:ext cx="8864640" cy="4064040"/>
        </p:xfrm>
        <a:graphic>
          <a:graphicData uri="http://schemas.openxmlformats.org/presentationml/2006/ole">
            <p:oleObj r:id="rId1" spid="">
              <p:embed/>
              <p:pic>
                <p:nvPicPr>
                  <p:cNvPr id="264"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65"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6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28F5DCD3-F9F0-4492-A4D5-E528AC74AA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68"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4" descr=""/>
          <p:cNvPicPr/>
          <p:nvPr/>
        </p:nvPicPr>
        <p:blipFill>
          <a:blip r:embed="rId1"/>
          <a:stretch/>
        </p:blipFill>
        <p:spPr>
          <a:xfrm>
            <a:off x="304920" y="2133720"/>
            <a:ext cx="8319960" cy="2417760"/>
          </a:xfrm>
          <a:prstGeom prst="rect">
            <a:avLst/>
          </a:prstGeom>
          <a:ln w="0">
            <a:noFill/>
          </a:ln>
        </p:spPr>
      </p:pic>
      <p:sp>
        <p:nvSpPr>
          <p:cNvPr id="272"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
        <p:nvSpPr>
          <p:cNvPr id="27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8D01-5F04-4632-A361-62F9B5A7613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6572-8433-4004-9302-472E652710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76"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7" name="Picture 4" descr=""/>
          <p:cNvPicPr/>
          <p:nvPr/>
        </p:nvPicPr>
        <p:blipFill>
          <a:blip r:embed="rId1"/>
          <a:stretch/>
        </p:blipFill>
        <p:spPr>
          <a:xfrm>
            <a:off x="2971800" y="2514600"/>
            <a:ext cx="5181480" cy="3193920"/>
          </a:xfrm>
          <a:prstGeom prst="rect">
            <a:avLst/>
          </a:prstGeom>
          <a:ln w="0">
            <a:noFill/>
          </a:ln>
        </p:spPr>
      </p:pic>
      <p:sp>
        <p:nvSpPr>
          <p:cNvPr id="278"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79"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81" name="Picture 3" descr=""/>
          <p:cNvPicPr/>
          <p:nvPr/>
        </p:nvPicPr>
        <p:blipFill>
          <a:blip r:embed="rId1"/>
          <a:stretch/>
        </p:blipFill>
        <p:spPr>
          <a:xfrm>
            <a:off x="762120" y="1523880"/>
            <a:ext cx="7086600" cy="4191120"/>
          </a:xfrm>
          <a:prstGeom prst="rect">
            <a:avLst/>
          </a:prstGeom>
          <a:ln w="0">
            <a:noFill/>
          </a:ln>
        </p:spPr>
      </p:pic>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58A6-2DF4-4AF4-A9D7-C5D710462C7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ECCF-4125-4C11-ABF4-7A517FEBA7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DA86-1F3B-490F-875B-2FEF8FE1530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7476-C8C2-4879-840E-49FCF376C9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85" name="Picture 3" descr=""/>
          <p:cNvPicPr/>
          <p:nvPr/>
        </p:nvPicPr>
        <p:blipFill>
          <a:blip r:embed="rId1"/>
          <a:stretch/>
        </p:blipFill>
        <p:spPr>
          <a:xfrm>
            <a:off x="762120" y="1523880"/>
            <a:ext cx="7086600" cy="4191120"/>
          </a:xfrm>
          <a:prstGeom prst="rect">
            <a:avLst/>
          </a:prstGeom>
          <a:ln w="0">
            <a:noFill/>
          </a:ln>
        </p:spPr>
      </p:pic>
      <p:sp>
        <p:nvSpPr>
          <p:cNvPr id="2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9CF6-2651-4BEA-945E-576EEA98251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BDCF-39F0-4824-B299-5FC142AA8B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
        <p:nvSpPr>
          <p:cNvPr id="2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0047-1B92-4B07-B788-4E7A8900BF4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0FA6-2FC9-452B-A2D9-2A63A0AE02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58EA-1A07-4D81-88C5-FB89043BBE9E}"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7C3F-3750-45F9-AF49-146896BA92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300" name="Picture 5" descr=""/>
          <p:cNvPicPr/>
          <p:nvPr/>
        </p:nvPicPr>
        <p:blipFill>
          <a:blip r:embed="rId1"/>
          <a:stretch/>
        </p:blipFill>
        <p:spPr>
          <a:xfrm>
            <a:off x="533520" y="2235240"/>
            <a:ext cx="4495680" cy="3073320"/>
          </a:xfrm>
          <a:prstGeom prst="rect">
            <a:avLst/>
          </a:prstGeom>
          <a:ln w="0">
            <a:noFill/>
          </a:ln>
        </p:spPr>
      </p:pic>
      <p:pic>
        <p:nvPicPr>
          <p:cNvPr id="301" name="Picture 6" descr=""/>
          <p:cNvPicPr/>
          <p:nvPr/>
        </p:nvPicPr>
        <p:blipFill>
          <a:blip r:embed="rId2"/>
          <a:stretch/>
        </p:blipFill>
        <p:spPr>
          <a:xfrm>
            <a:off x="4572000" y="2438280"/>
            <a:ext cx="4186080" cy="2862360"/>
          </a:xfrm>
          <a:prstGeom prst="rect">
            <a:avLst/>
          </a:prstGeom>
          <a:ln w="0">
            <a:noFill/>
          </a:ln>
        </p:spPr>
      </p:pic>
      <p:sp>
        <p:nvSpPr>
          <p:cNvPr id="302"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303"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306"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
        <p:nvSpPr>
          <p:cNvPr id="307"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A62A-21C2-45FE-AF8D-AF8C1F2CDB8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0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DFF7-B630-4ACE-8C6D-BDF79C1422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3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2D59-F674-4D47-8CBF-4E0A07016B3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3151-5851-42DA-A6F6-D7BF13D01C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314"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5" descr=""/>
          <p:cNvPicPr/>
          <p:nvPr/>
        </p:nvPicPr>
        <p:blipFill>
          <a:blip r:embed="rId1"/>
          <a:stretch/>
        </p:blipFill>
        <p:spPr>
          <a:xfrm>
            <a:off x="3657600" y="1523880"/>
            <a:ext cx="4067280" cy="3838680"/>
          </a:xfrm>
          <a:prstGeom prst="rect">
            <a:avLst/>
          </a:prstGeom>
          <a:ln w="0">
            <a:noFill/>
          </a:ln>
        </p:spPr>
      </p:pic>
      <p:sp>
        <p:nvSpPr>
          <p:cNvPr id="31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B4ED-167B-4CC2-A41C-C5DB6AF6AF0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F907-7390-4C88-AEE5-58B72A473E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319" name="Picture 4" descr=""/>
          <p:cNvPicPr/>
          <p:nvPr/>
        </p:nvPicPr>
        <p:blipFill>
          <a:blip r:embed="rId1"/>
          <a:stretch/>
        </p:blipFill>
        <p:spPr>
          <a:xfrm>
            <a:off x="380880" y="1523880"/>
            <a:ext cx="7086600" cy="4478400"/>
          </a:xfrm>
          <a:prstGeom prst="rect">
            <a:avLst/>
          </a:prstGeom>
          <a:ln w="0">
            <a:noFill/>
          </a:ln>
        </p:spPr>
      </p:pic>
      <p:sp>
        <p:nvSpPr>
          <p:cNvPr id="320"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321"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0FC2-2B72-45EF-82C2-EF706774611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2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ADDF-2B78-45A4-BD37-0C1AD81F70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326" name="Picture 3" descr=""/>
          <p:cNvPicPr/>
          <p:nvPr/>
        </p:nvPicPr>
        <p:blipFill>
          <a:blip r:embed="rId1"/>
          <a:stretch/>
        </p:blipFill>
        <p:spPr>
          <a:xfrm>
            <a:off x="2670120" y="1523880"/>
            <a:ext cx="3268800" cy="4191120"/>
          </a:xfrm>
          <a:prstGeom prst="rect">
            <a:avLst/>
          </a:prstGeom>
          <a:ln w="0">
            <a:noFill/>
          </a:ln>
        </p:spPr>
      </p:pic>
      <p:sp>
        <p:nvSpPr>
          <p:cNvPr id="327"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328"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C3DD-2884-4592-BED0-A3FD997226E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EC4E-B05F-465C-AC43-D5863354B9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Formulas</a:t>
            </a:r>
            <a:endParaRPr b="1" lang="en-US" sz="2000" spc="-1" strike="noStrike">
              <a:solidFill>
                <a:srgbClr val="000000"/>
              </a:solidFill>
              <a:latin typeface="Arial"/>
            </a:endParaRPr>
          </a:p>
        </p:txBody>
      </p:sp>
      <p:sp>
        <p:nvSpPr>
          <p:cNvPr id="3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s are often used when small companies in high-growth, high-tech or service industries are sold.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quirer typically pays 60–80% of the purchase price up front with the remaining 20–40% structured as an earn-out and paid out over time as the acquired company achieves certain levels of sales or profitabi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600" spc="-1" strike="noStrike">
              <a:solidFill>
                <a:srgbClr val="000000"/>
              </a:solidFill>
              <a:latin typeface="Arial"/>
            </a:endParaRPr>
          </a:p>
        </p:txBody>
      </p:sp>
      <p:sp>
        <p:nvSpPr>
          <p:cNvPr id="3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CA4B-C6D6-485D-B1F9-D49F65D045D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B629-CA90-4328-8924-F9B642EBB9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EC38-64B3-4DE9-8A90-042244627D9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D355-F61A-46E4-B567-60C6879AF9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Example</a:t>
            </a:r>
            <a:endParaRPr b="1" lang="en-US" sz="2000" spc="-1" strike="noStrike">
              <a:solidFill>
                <a:srgbClr val="000000"/>
              </a:solidFill>
              <a:latin typeface="Arial"/>
            </a:endParaRPr>
          </a:p>
        </p:txBody>
      </p:sp>
      <p:sp>
        <p:nvSpPr>
          <p:cNvPr id="3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an entrepreneur selling a business is asking $2,000,000 based on projected earnings, but the buyer is willing to pay only $1,000,000 based on historical performanc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n out provision structures the deal so that the entrepreneur receives more than the buyer's offer only if the business achieves a certain level of earning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ct numbers would depend upon the business, but in this example a simplified provision might set the purchase price at $1,000,000 plus 20% of gross sales above a given level over the next three years. The earn out thereby helps eliminate uncertainty for the buyer.</a:t>
            </a:r>
            <a:endParaRPr b="0" lang="en-US" sz="1800" spc="-1" strike="noStrike">
              <a:solidFill>
                <a:srgbClr val="000000"/>
              </a:solidFill>
              <a:latin typeface="Arial"/>
            </a:endParaRPr>
          </a:p>
        </p:txBody>
      </p:sp>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530D-8EB7-4F21-938F-3AB61F4E581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4881-5129-4919-83F3-5A6796E1F5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Discussion</a:t>
            </a:r>
            <a:endParaRPr b="1" lang="en-US" sz="2000" spc="-1" strike="noStrike">
              <a:solidFill>
                <a:srgbClr val="000000"/>
              </a:solidFill>
              <a:latin typeface="Arial"/>
            </a:endParaRPr>
          </a:p>
        </p:txBody>
      </p:sp>
      <p:sp>
        <p:nvSpPr>
          <p:cNvPr id="340" name=""/>
          <p:cNvSpPr txBox="1"/>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feature of many acquisitions, an earn-out stipulates that the original owners of a business are paid for the sale of their company, </a:t>
            </a:r>
            <a:endParaRPr b="0" lang="en-US" sz="18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which they are contractually obligated to stay with the company through a transition period, an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ovided with the incentive to have a demonstrable effect on the company's financial performance going forwar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or exceeding a certain level of performance – criteria are typically set over a period of several years – means the original owners will earn a much larger profit from the sale.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uyers, an earn-out can offer the owner protection against overpaying for a company that doesn't end up thriving or growing in the way its original owners expected. It can also smooth the period of ownership transition</a:t>
            </a:r>
            <a:endParaRPr b="0" lang="en-US" sz="1600" spc="-1" strike="noStrike">
              <a:solidFill>
                <a:srgbClr val="000000"/>
              </a:solidFill>
              <a:latin typeface="Arial"/>
            </a:endParaRPr>
          </a:p>
        </p:txBody>
      </p:sp>
      <p:sp>
        <p:nvSpPr>
          <p:cNvPr id="3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D7D2-73DC-4CC3-A8E7-229FBAF773D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8234-6BF9-40DA-919F-147395D8CC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arn Outs</a:t>
            </a:r>
            <a:endParaRPr b="1" lang="en-US" sz="2000" spc="-1" strike="noStrike">
              <a:solidFill>
                <a:srgbClr val="000000"/>
              </a:solidFill>
              <a:latin typeface="Arial"/>
            </a:endParaRPr>
          </a:p>
        </p:txBody>
      </p:sp>
      <p:sp>
        <p:nvSpPr>
          <p:cNvPr id="34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isney acquired Club Penguin in 2007, for example, it paid $350 million upfront, with $350 million more promised through a series of earn-out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igh-tech and service businesses with high-growth potential, a typical deal might include an upfront payment from an acquirer of between 60 and 80 percent, with the balance paid over time possibly as an earn-out tied to perform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ost-dot-com-boom era, the owners of private companies regularly have been taking between 40 and 45 percent of the total pay-out through an earn-out agreement, according to surveys</a:t>
            </a:r>
            <a:endParaRPr b="0" lang="en-US" sz="1800" spc="-1" strike="noStrike">
              <a:solidFill>
                <a:srgbClr val="000000"/>
              </a:solidFill>
              <a:latin typeface="Arial"/>
            </a:endParaRPr>
          </a:p>
        </p:txBody>
      </p:sp>
      <p:sp>
        <p:nvSpPr>
          <p:cNvPr id="3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8368-565E-4AFD-98C6-1F49D232C58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EB0C-0E74-461C-A65C-684C60269A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s Continued</a:t>
            </a:r>
            <a:endParaRPr b="1" lang="en-US" sz="2000" spc="-1" strike="noStrike">
              <a:solidFill>
                <a:srgbClr val="000000"/>
              </a:solidFill>
              <a:latin typeface="Arial"/>
            </a:endParaRPr>
          </a:p>
        </p:txBody>
      </p:sp>
      <p:sp>
        <p:nvSpPr>
          <p:cNvPr id="348"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arn-outs depend on an extremely complicated matrix of variables and goals. This should be avoided if possib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outs are most effective as an incentive for the seller when the size of the payout is determined based upon one or two simple variables. A buyer who constructed a complicated set of goals covering earnings, customer retention, and myriad other circumstances should be challenged. These conditions might not be fully under your control should you accept the earn-out. </a:t>
            </a:r>
            <a:endParaRPr b="0" lang="en-US" sz="1800" spc="-1" strike="noStrike">
              <a:solidFill>
                <a:srgbClr val="000000"/>
              </a:solidFill>
              <a:latin typeface="Arial"/>
            </a:endParaRPr>
          </a:p>
        </p:txBody>
      </p:sp>
      <p:sp>
        <p:nvSpPr>
          <p:cNvPr id="3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E020-71A7-4DDC-A163-DBEA3C32998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AD34-960C-4B96-9095-B1B307C028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
        <p:nvSpPr>
          <p:cNvPr id="3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3833-93D3-427A-A5D9-064459B2B82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6A7D-666B-40CE-9ABD-4BED0A4E3F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357" name="Picture 3" descr=""/>
          <p:cNvPicPr/>
          <p:nvPr/>
        </p:nvPicPr>
        <p:blipFill>
          <a:blip r:embed="rId1"/>
          <a:stretch/>
        </p:blipFill>
        <p:spPr>
          <a:xfrm>
            <a:off x="762120" y="1523880"/>
            <a:ext cx="7086600" cy="4191120"/>
          </a:xfrm>
          <a:prstGeom prst="rect">
            <a:avLst/>
          </a:prstGeom>
          <a:ln w="0">
            <a:noFill/>
          </a:ln>
        </p:spPr>
      </p:pic>
      <p:sp>
        <p:nvSpPr>
          <p:cNvPr id="3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BDC5-33A1-46F3-BB94-7B8ED436893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23A8-7B94-4563-81FD-C351B41791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
        <p:nvSpPr>
          <p:cNvPr id="3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F51F-CB0F-42E2-AC7D-07AF20E5052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82F7-6894-4880-992A-72F5FC6B55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366" name="Picture 3" descr=""/>
          <p:cNvPicPr/>
          <p:nvPr/>
        </p:nvPicPr>
        <p:blipFill>
          <a:blip r:embed="rId1"/>
          <a:stretch/>
        </p:blipFill>
        <p:spPr>
          <a:xfrm>
            <a:off x="1346040" y="1523880"/>
            <a:ext cx="5918400" cy="4191120"/>
          </a:xfrm>
          <a:prstGeom prst="rect">
            <a:avLst/>
          </a:prstGeom>
          <a:ln w="0">
            <a:noFill/>
          </a:ln>
        </p:spPr>
      </p:pic>
      <p:sp>
        <p:nvSpPr>
          <p:cNvPr id="3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1F23-494E-4936-BFC7-DFBC00F5158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446B-0243-4C1F-B4A2-BFEB8BF5E6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3" name="Content Placeholder 3" descr="Margin_Growth.png"/>
          <p:cNvPicPr/>
          <p:nvPr/>
        </p:nvPicPr>
        <p:blipFill>
          <a:blip r:embed="rId1"/>
          <a:stretch/>
        </p:blipFill>
        <p:spPr>
          <a:xfrm>
            <a:off x="304920" y="1828800"/>
            <a:ext cx="8421480" cy="3505320"/>
          </a:xfrm>
          <a:prstGeom prst="rect">
            <a:avLst/>
          </a:prstGeom>
          <a:ln w="0">
            <a:noFill/>
          </a:ln>
        </p:spPr>
      </p:pic>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0EFC-9E42-45D1-83E1-28A87DE76C1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68EE-F99B-4B20-821C-21BED46212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370" name="Picture 3" descr=""/>
          <p:cNvPicPr/>
          <p:nvPr/>
        </p:nvPicPr>
        <p:blipFill>
          <a:blip r:embed="rId1"/>
          <a:stretch/>
        </p:blipFill>
        <p:spPr>
          <a:xfrm>
            <a:off x="2722680" y="3606840"/>
            <a:ext cx="3203280" cy="2387520"/>
          </a:xfrm>
          <a:prstGeom prst="rect">
            <a:avLst/>
          </a:prstGeom>
          <a:ln w="0">
            <a:noFill/>
          </a:ln>
        </p:spPr>
      </p:pic>
      <p:pic>
        <p:nvPicPr>
          <p:cNvPr id="371" name="Picture 4" descr=""/>
          <p:cNvPicPr/>
          <p:nvPr/>
        </p:nvPicPr>
        <p:blipFill>
          <a:blip r:embed="rId2"/>
          <a:stretch/>
        </p:blipFill>
        <p:spPr>
          <a:xfrm>
            <a:off x="2712960" y="3573360"/>
            <a:ext cx="3200400" cy="2378160"/>
          </a:xfrm>
          <a:prstGeom prst="rect">
            <a:avLst/>
          </a:prstGeom>
          <a:ln w="0">
            <a:noFill/>
          </a:ln>
        </p:spPr>
      </p:pic>
      <p:pic>
        <p:nvPicPr>
          <p:cNvPr id="372" name="Picture 5" descr=""/>
          <p:cNvPicPr/>
          <p:nvPr/>
        </p:nvPicPr>
        <p:blipFill>
          <a:blip r:embed="rId3"/>
          <a:stretch/>
        </p:blipFill>
        <p:spPr>
          <a:xfrm>
            <a:off x="1295280" y="1614600"/>
            <a:ext cx="3200400" cy="2365200"/>
          </a:xfrm>
          <a:prstGeom prst="rect">
            <a:avLst/>
          </a:prstGeom>
          <a:ln w="0">
            <a:noFill/>
          </a:ln>
        </p:spPr>
      </p:pic>
      <p:sp>
        <p:nvSpPr>
          <p:cNvPr id="373"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374"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375"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6"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77"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78"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79"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80"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81"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82"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83"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84"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6995-C736-4890-B419-96B666AB52F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152D-32BF-4220-AA11-442FE7BE67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
        <p:nvSpPr>
          <p:cNvPr id="3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FA34-7D1F-4115-9B2F-4B467BBB04A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8E82-E6D2-4D3B-9D52-131496B164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C7AA-6BE7-42C7-9DBF-BB196DAA398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B488-8C07-4C55-8688-6EAF150D88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
        <p:nvSpPr>
          <p:cNvPr id="3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8D0D-D7AB-4C55-A042-0723575A891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4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9204-73C5-4F86-9C4A-F16589418B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C517-DF78-4B85-8695-DD8FEE7176B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B3A2-4E9A-4257-9633-0359C72BD8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406" name="Group 3"/>
          <p:cNvGrpSpPr/>
          <p:nvPr/>
        </p:nvGrpSpPr>
        <p:grpSpPr>
          <a:xfrm>
            <a:off x="838080" y="1143000"/>
            <a:ext cx="7162920" cy="4897440"/>
            <a:chOff x="838080" y="1143000"/>
            <a:chExt cx="7162920" cy="4897440"/>
          </a:xfrm>
        </p:grpSpPr>
        <p:sp>
          <p:nvSpPr>
            <p:cNvPr id="407"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08" name="Group 5"/>
            <p:cNvGrpSpPr/>
            <p:nvPr/>
          </p:nvGrpSpPr>
          <p:grpSpPr>
            <a:xfrm>
              <a:off x="1053360" y="1324080"/>
              <a:ext cx="6518880" cy="4575600"/>
              <a:chOff x="1053360" y="1324080"/>
              <a:chExt cx="6518880" cy="4575600"/>
            </a:xfrm>
          </p:grpSpPr>
          <p:sp>
            <p:nvSpPr>
              <p:cNvPr id="409"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546"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547"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548"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549"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550"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551"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552"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553"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554"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555"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556"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557"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558"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559"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560"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561"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562"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563"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564"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565"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566"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567"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568"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569"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570"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571"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572"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573"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74"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575"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576"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577"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578"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579"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580"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581"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582"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583"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584"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585"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586"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587"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588"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589"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590"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591"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592"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93"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94"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95"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96"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97"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98"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99"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600"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601"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602"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603"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604"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605"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606"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607"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608"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609"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610"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611"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614"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617"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
        <p:nvSpPr>
          <p:cNvPr id="620" name="Date Placeholder 2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DCAE-F9CD-4B28-A574-5460812D6D9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1" name="Slide Number Placeholder 2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ACAC-82AF-4302-8AC3-525B6FB88E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623" name="Picture 3" descr=""/>
          <p:cNvPicPr/>
          <p:nvPr/>
        </p:nvPicPr>
        <p:blipFill>
          <a:blip r:embed="rId1"/>
          <a:stretch/>
        </p:blipFill>
        <p:spPr>
          <a:xfrm>
            <a:off x="762120" y="1600200"/>
            <a:ext cx="7086600" cy="4038480"/>
          </a:xfrm>
          <a:prstGeom prst="rect">
            <a:avLst/>
          </a:prstGeom>
          <a:ln w="0">
            <a:noFill/>
          </a:ln>
        </p:spPr>
      </p:pic>
      <p:sp>
        <p:nvSpPr>
          <p:cNvPr id="6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AF95-44B0-427E-9109-8A2D996D495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4C74-F5B3-4CE1-BB59-EA2AF9017D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6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
        <p:nvSpPr>
          <p:cNvPr id="62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8923-7469-4D74-8F9F-0CEB6070248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1275-1CC0-40B4-9FF8-D89803DF48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7" name="Picture 3" descr=""/>
          <p:cNvPicPr/>
          <p:nvPr/>
        </p:nvPicPr>
        <p:blipFill>
          <a:blip r:embed="rId1"/>
          <a:stretch/>
        </p:blipFill>
        <p:spPr>
          <a:xfrm>
            <a:off x="762120" y="1604880"/>
            <a:ext cx="7086600" cy="4027680"/>
          </a:xfrm>
          <a:prstGeom prst="rect">
            <a:avLst/>
          </a:prstGeom>
          <a:ln w="0">
            <a:noFill/>
          </a:ln>
        </p:spPr>
      </p:pic>
      <p:sp>
        <p:nvSpPr>
          <p:cNvPr id="118"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9"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21"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
        <p:nvSpPr>
          <p:cNvPr id="12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7783-36CB-4544-AC4C-9BA0346EBF5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2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4B1D-E67C-43E5-AA81-530630D300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6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2298-0C50-4073-A565-3E5338A5B3A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8A64-A22E-4F66-A5A9-C875898C69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6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
        <p:nvSpPr>
          <p:cNvPr id="6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33EA-8F0E-4FC9-8BF4-A9C85038EC7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E7A6-F5DA-4C70-B6BB-7CC7B6F5CC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64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
        <p:nvSpPr>
          <p:cNvPr id="6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3BDB-4970-422A-BE76-DEEDE13032E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E868-39F2-4DA3-B000-95A18B564F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645" name="Picture 4" descr=""/>
          <p:cNvPicPr/>
          <p:nvPr/>
        </p:nvPicPr>
        <p:blipFill>
          <a:blip r:embed="rId1"/>
          <a:stretch/>
        </p:blipFill>
        <p:spPr>
          <a:xfrm>
            <a:off x="5105520" y="2819520"/>
            <a:ext cx="2447640" cy="1319040"/>
          </a:xfrm>
          <a:prstGeom prst="rect">
            <a:avLst/>
          </a:prstGeom>
          <a:ln w="0">
            <a:noFill/>
          </a:ln>
        </p:spPr>
      </p:pic>
      <p:sp>
        <p:nvSpPr>
          <p:cNvPr id="64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8594-A91E-446A-A7C3-8AF0A25C908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5CC0-5386-4BFC-A312-87107F02CF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6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650"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
        <p:nvSpPr>
          <p:cNvPr id="65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4FFF-4FAD-47B1-9461-631D9CD48E4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5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089A-A0B6-4272-B0B1-4EE3F95C97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
        <p:nvSpPr>
          <p:cNvPr id="6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0A93-BBAF-4B26-849E-0D7E1780EA5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8354-A392-40B7-B40A-4B18FA12BE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F632-CF24-4783-BAFB-9C0DB27143D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F706-8557-4217-AC83-0604B87C1A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
        <p:nvSpPr>
          <p:cNvPr id="6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9A4B-6D3D-44AB-AC53-EB7FD14AD63E}"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2873-346B-4BB1-8E4C-C5D632325B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
        <p:nvSpPr>
          <p:cNvPr id="6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C02F-D54F-4EC1-807D-8CE05929AB7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4169-E54A-4BD0-9A52-689D73FCF5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6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
        <p:nvSpPr>
          <p:cNvPr id="6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9601-850C-4E06-BDF0-0C279CBEBF6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D92F-99BB-4ADB-A47B-8241A4BE51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25" name="Content Placeholder 3" descr="After_Lehman.png"/>
          <p:cNvPicPr/>
          <p:nvPr/>
        </p:nvPicPr>
        <p:blipFill>
          <a:blip r:embed="rId1"/>
          <a:stretch/>
        </p:blipFill>
        <p:spPr>
          <a:xfrm>
            <a:off x="990720" y="1371600"/>
            <a:ext cx="6615000" cy="4648320"/>
          </a:xfrm>
          <a:prstGeom prst="rect">
            <a:avLst/>
          </a:prstGeom>
          <a:ln w="0">
            <a:noFill/>
          </a:ln>
        </p:spPr>
      </p:pic>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A09D-0DFA-4BD1-9E3E-65B94573595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4B79-8F55-46E0-B21B-5AE2CBCBFD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6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4A92-7A5D-4461-98E3-913D957AB0D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7DF4-B847-4AAD-81AE-BF733143D5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6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
        <p:nvSpPr>
          <p:cNvPr id="6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C4EE-85BF-41F7-BB4B-DF8700656FC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0E18-8D99-4332-882B-F10C57BB2A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683"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684" name="Picture 4" descr=""/>
          <p:cNvPicPr/>
          <p:nvPr/>
        </p:nvPicPr>
        <p:blipFill>
          <a:blip r:embed="rId1"/>
          <a:stretch/>
        </p:blipFill>
        <p:spPr>
          <a:xfrm>
            <a:off x="4724280" y="3505320"/>
            <a:ext cx="3886200" cy="2509560"/>
          </a:xfrm>
          <a:prstGeom prst="rect">
            <a:avLst/>
          </a:prstGeom>
          <a:ln w="0">
            <a:noFill/>
          </a:ln>
        </p:spPr>
      </p:pic>
      <p:sp>
        <p:nvSpPr>
          <p:cNvPr id="68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0D2B-0AA5-49B1-8A49-644D82E9BD88}"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5298-0067-45A2-A00E-B4D5DE1401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688"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
        <p:nvSpPr>
          <p:cNvPr id="6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3B63-69A0-4A91-9095-E3720E32406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2D4E-9BB9-402D-AE1C-F205FAE027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6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
        <p:nvSpPr>
          <p:cNvPr id="6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7802-8D10-4F90-A0D8-CB3CE454572E}"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009C-03A3-4F57-9CBF-CB0EDF1DA0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6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
        <p:nvSpPr>
          <p:cNvPr id="6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C849-28B9-4E44-8630-C174324BBBE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9DE7-5518-4C32-9C8F-5A2E679327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7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
        <p:nvSpPr>
          <p:cNvPr id="7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34E5-D1D6-4BB2-AECC-BA1CFDBE347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98E1-401E-4724-BA80-1A9C2F0E32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70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5" name="Picture 4" descr=""/>
          <p:cNvPicPr/>
          <p:nvPr/>
        </p:nvPicPr>
        <p:blipFill>
          <a:blip r:embed="rId1"/>
          <a:srcRect l="0" t="22862" r="0" b="8573"/>
          <a:stretch/>
        </p:blipFill>
        <p:spPr>
          <a:xfrm>
            <a:off x="4724280" y="1676520"/>
            <a:ext cx="3276720" cy="1787400"/>
          </a:xfrm>
          <a:prstGeom prst="rect">
            <a:avLst/>
          </a:prstGeom>
          <a:ln w="0">
            <a:noFill/>
          </a:ln>
        </p:spPr>
      </p:pic>
      <p:sp>
        <p:nvSpPr>
          <p:cNvPr id="706"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707" name="Picture 6" descr=""/>
          <p:cNvPicPr/>
          <p:nvPr/>
        </p:nvPicPr>
        <p:blipFill>
          <a:blip r:embed="rId2"/>
          <a:srcRect l="0" t="19071" r="0" b="8476"/>
          <a:stretch/>
        </p:blipFill>
        <p:spPr>
          <a:xfrm>
            <a:off x="4800600" y="4267080"/>
            <a:ext cx="3373560" cy="1524240"/>
          </a:xfrm>
          <a:prstGeom prst="rect">
            <a:avLst/>
          </a:prstGeom>
          <a:ln w="0">
            <a:noFill/>
          </a:ln>
        </p:spPr>
      </p:pic>
      <p:sp>
        <p:nvSpPr>
          <p:cNvPr id="708"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7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
        <p:nvSpPr>
          <p:cNvPr id="7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7576-7820-4230-967C-37C0A114ABB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B727-3658-4436-B6CD-F87B503373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0" name="Picture 5"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71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15" name="Picture 4" descr=""/>
          <p:cNvPicPr/>
          <p:nvPr/>
        </p:nvPicPr>
        <p:blipFill>
          <a:blip r:embed="rId1"/>
          <a:stretch/>
        </p:blipFill>
        <p:spPr>
          <a:xfrm>
            <a:off x="4191120" y="3352680"/>
            <a:ext cx="4724280" cy="2374920"/>
          </a:xfrm>
          <a:prstGeom prst="rect">
            <a:avLst/>
          </a:prstGeom>
          <a:ln w="0">
            <a:noFill/>
          </a:ln>
        </p:spPr>
      </p:pic>
      <p:sp>
        <p:nvSpPr>
          <p:cNvPr id="716"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7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
        <p:nvSpPr>
          <p:cNvPr id="7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8479-F8C4-45EC-8FA5-7F1858D0B27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2109-B24D-439A-96A0-02425B69D9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722" name="Picture 3" descr=""/>
          <p:cNvPicPr/>
          <p:nvPr/>
        </p:nvPicPr>
        <p:blipFill>
          <a:blip r:embed="rId1"/>
          <a:stretch/>
        </p:blipFill>
        <p:spPr>
          <a:xfrm>
            <a:off x="1319040" y="1523880"/>
            <a:ext cx="5972400" cy="4191120"/>
          </a:xfrm>
          <a:prstGeom prst="rect">
            <a:avLst/>
          </a:prstGeom>
          <a:ln w="0">
            <a:noFill/>
          </a:ln>
        </p:spPr>
      </p:pic>
      <p:sp>
        <p:nvSpPr>
          <p:cNvPr id="7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A033-373E-4F13-B302-4F9F52A718E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0FFD-23B0-433A-9798-B8BE7ED60D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250C-26B7-433F-9778-EE76DD80227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263A-D7A3-4E99-A1E3-5FD1465419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730" name="Object 4"/>
          <p:cNvGraphicFramePr/>
          <p:nvPr/>
        </p:nvGraphicFramePr>
        <p:xfrm>
          <a:off x="762120" y="1447920"/>
          <a:ext cx="7343640" cy="2408040"/>
        </p:xfrm>
        <a:graphic>
          <a:graphicData uri="http://schemas.openxmlformats.org/presentationml/2006/ole">
            <p:oleObj r:id="rId1" spid="">
              <p:embed/>
              <p:pic>
                <p:nvPicPr>
                  <p:cNvPr id="731"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732" name="Object 5"/>
          <p:cNvGraphicFramePr/>
          <p:nvPr/>
        </p:nvGraphicFramePr>
        <p:xfrm>
          <a:off x="1066680" y="3733920"/>
          <a:ext cx="7261200" cy="2436840"/>
        </p:xfrm>
        <a:graphic>
          <a:graphicData uri="http://schemas.openxmlformats.org/presentationml/2006/ole">
            <p:oleObj r:id="rId3" spid="">
              <p:embed/>
              <p:pic>
                <p:nvPicPr>
                  <p:cNvPr id="733"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3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838F-815F-4850-BDD3-404517DA80D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DEBF-2E65-447A-A6ED-A9A70ABDAC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38"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0" name="Object 4"/>
          <p:cNvGraphicFramePr/>
          <p:nvPr/>
        </p:nvGraphicFramePr>
        <p:xfrm>
          <a:off x="1371600" y="3809880"/>
          <a:ext cx="6629400" cy="2082960"/>
        </p:xfrm>
        <a:graphic>
          <a:graphicData uri="http://schemas.openxmlformats.org/presentationml/2006/ole">
            <p:oleObj progId="Excel.Sheet.12" r:id="rId1" spid="">
              <p:embed/>
              <p:pic>
                <p:nvPicPr>
                  <p:cNvPr id="741"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7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4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F3CC-F492-4B90-9309-2A521B43C22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1332-64F2-4846-AD2E-EA0269953A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46"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747" name="Object 4"/>
          <p:cNvGraphicFramePr/>
          <p:nvPr/>
        </p:nvGraphicFramePr>
        <p:xfrm>
          <a:off x="1676520" y="2362320"/>
          <a:ext cx="6019560" cy="3228840"/>
        </p:xfrm>
        <a:graphic>
          <a:graphicData uri="http://schemas.openxmlformats.org/presentationml/2006/ole">
            <p:oleObj progId="Excel.Sheet.12" r:id="rId1" spid="">
              <p:embed/>
              <p:pic>
                <p:nvPicPr>
                  <p:cNvPr id="748"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0"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2"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Monica Lewinski</cp:lastModifiedBy>
  <cp:lastPrinted>1999-07-15T13:20:36Z</cp:lastPrinted>
  <dcterms:modified xsi:type="dcterms:W3CDTF">2011-07-20T13:59:20Z</dcterms:modified>
  <cp:revision>242</cp:revision>
  <dc:subject>Freedom</dc:subject>
  <dc:title>LBO General Discussion</dc:title>
</cp:coreProperties>
</file>